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0713-E660-4D73-8621-3D966950D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A76-CD73-4F47-B0F2-ACEDD98A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0084-711B-4229-BD05-66C23F83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8676-2317-49AF-AA7E-486F037D3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D805E-9A99-4833-B88B-984D6AD20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9B3B-63CE-42F1-9687-3AACE195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2026-C16D-4F2A-862C-F7DD5E010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E548B-2CF6-468F-9AB8-FBC7047E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2C9E-B912-4F62-B652-1F8B3BAA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5C857-70F6-4B9E-AA5B-5060EF51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6F3E-7C86-4E05-95E2-48D83D87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C259-3D8F-4117-BD5D-532C10F5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56CB9-6787-48AA-8839-D3E3B765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BA4DD-EF58-4223-9EC7-118BB549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1468-252D-42D7-B6C6-A39C42A57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8D9-DCA7-4305-B890-459B7A95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20A04-E141-4580-93A9-A6223A7F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9F03-0EB4-4E81-8000-CA0F8DA4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47F8-CD37-4615-B648-CF6F6B03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CD46-FD10-447B-8C63-99638C7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64B8-9DCD-408F-B43F-2CF38705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B54-3B07-4EDF-89E8-500C4B3D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450E-34F4-41F7-886B-2871966D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9422-2DDC-40CD-8C0A-2C39D626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4C42-73A0-4CB4-A3B3-402D88DE5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9816-8070-4CE2-AAD7-FEBE876DCD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284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oducts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iabi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108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Bails, Jackie Flowers, Scott Ha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 Liability La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tort law of negligence or strict liability and contract law of sales or warranty resulting fr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ct in design or manufact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pe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ch of warra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ligence in marketing due to improper directions, warnings, or advert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intiff must prove causation – 51% likely that product caused the inju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gli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” theory of products li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r owes a duty of care to the consumer when designing and constructing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mer must prove manufacturer was careless or lax in its duty and thus produced a defectiv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ctrine of Strict Li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who sells a product in defective condition is liable for harm caused to user or user’s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defective product not careless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ured party must prov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 was defective and unreasonably danger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ect was present at the time of manufa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fect caused the inj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rran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led by Uniform Commercial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warranty – material statement made voluntarily by manufacturer to induce s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d warranty – product is generally fit for the purpose for which it was designed, implied by law and part of every sales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ress or Implie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Decid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505320" y="4952880"/>
            <a:ext cx="495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 clip from Consumer Product Safet commission web si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psc.gov/mpeg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Liability Def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tive negligence – apportions fault and damages to injured due to negligent use of product, ex. 30% user fault, 70% manufacturer fault, pays 70% of da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ption of risk – injured consumer assumed the risk of injury, ex. Use of chainsaw, involves assume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suse – injured misused product, ex. Using chair as a ladder to change lightbu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tes of Repose – useful life defense, usually 8, 10 or 12 years, ex. 20 year old drop cord catches f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ense A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ical 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s pertaining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nd inspec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compl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lit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Quality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nd systems based on government or industr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re to lo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netary awards fo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dical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ss of earning capa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ntal pa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unitive dam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al expen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d public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etitiveness of product in market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er insurance premi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product re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mage to repu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production re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st of quality efforts for prevention or apprais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nitive Damages 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d Motor Compan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d Pi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28600" y="2438280"/>
          <a:ext cx="2819520" cy="2114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438280"/>
                    <a:ext cx="28195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3200400" y="2438280"/>
          <a:ext cx="2819520" cy="2114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00400" y="2438280"/>
                    <a:ext cx="28195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6172200" y="2438280"/>
          <a:ext cx="2819520" cy="2114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81952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1676520" y="4876920"/>
            <a:ext cx="51051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s from MotherJones.com web si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otherjones.com/news/feature/1977/09/dowi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ation:  Formal product safety committ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Engineer or outside consultant as committee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from legal, design, manufacturing, marketing, qual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must be made aware of committee and chair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access to senior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5627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7400" y="6172200"/>
            <a:ext cx="4495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33720" y="61722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Play: “Name that Famous Product Liability Case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2437920"/>
            <a:ext cx="49528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BQ on wheel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d Pi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ded crotch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cDonald’s coff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overs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tone t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n you think of oth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mployees must be made aware of the importance of product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use of purchased materials, training sessions, and printed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or transferred employees need to be exposed to same education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s need to know how to handle first notifications of product inci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54100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60199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E INVOL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1920" indent="-511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oduct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rst and least expensive chance to correct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afety of product for consumer is paramount in review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opt safety design techniques ( listed on page 416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e written description of product by desig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 review team with no preconceived notions about the use of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customer requirements and customer’s known use of the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-447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sign control is a requirement of ISO 9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5334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320" y="586728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ATISFACTION, EMPLOYEE INVOLVEMENT, CONTINUOUS IMPROVEMENT,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l Production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eck for defects in first production items not found in proto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production run for inherently hazardous products to gage risk exposure to custom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olve more people in this review than design revie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aluates manufacturing plan (elements listed on page 4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evaluate product safety for potential liability expos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cess control is a requirement of ISO 9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5181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320" y="563868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ATISFACTION, EMPLOYEE INVOLVEMENT, CONTINUOUS IMPROVEMENT,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iodic Production Aud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rify effectiveness of quality control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erformed on recently manufactured products that have been through the distribution systems and in customer use for substantial period of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spection and testing is based on customer 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is sent to the product safety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on audits are a requirement of ISO 9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120" y="5181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563868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rol of Warranties, Advertisements,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 warranty, advertising literature, dealer agreements, catalogs, and technical public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the word “safe” or “ensures safet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counsel should analyz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items listed on page 4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eedback is sent to the product safety committ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tion audits are a requirement of ISO 9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" y="51814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320" y="5638680"/>
            <a:ext cx="899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question!  None directly, but perhaps it could be PERFORMANCE MEAS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518040" indent="-518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 Labels and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st cause of manufacturer’s negligence due to inadequate or nonexistent warn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duct is not defective when it has a warning that when followed makes the product safe to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National Standards Institute issues guidelines for warning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inction between warnings and instructions, both must b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-453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s should not be over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2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Product Warning Lab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name th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or use by trained personnel onl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can of air freshe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or external use only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curling ir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or indoor or outdoor use onl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string of Christmas l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 not use orall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toilet bowl cleaning 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643104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ings People Said, Warning Labels web site:  http://rinkworks.com/said/warning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Product Warning Lab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o name the produ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Fragile. Do not drop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osted on a Boeing 7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 not iron clothes on bod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packaging for a Rowenta i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Do not use intimatel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tube of deodo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Wearing of this garment does not enable you to fly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 a child sized Superman costu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643104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Things People Said, Warning Labels web site:  http://rinkworks.com/said/warning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up Exerc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 into 3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applicable product warning labels for items given to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group will present their items and their labels to the cl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up at least one obscure and invalid warning label like those we just saw for one of your ite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rogation (to put in the place of an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s to raw materials and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s need to follow same safety cri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visit suppliers and audit thei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concerning defective materials from supplier should be made in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chasing oversight is a requirement of ISO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5334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Quality Principle does this illustra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20" y="5867280"/>
            <a:ext cx="899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Partn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Li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wsuits are at record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ry verdicts for injured parties continues to r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gment/settlement values keep 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y million product accidents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cost of $50,000,000,0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ifty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aints and Claims – corrective action required by ISO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tion of Records and Document Control – record retention required by ISO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 9000 Documents – failure to have quality plan may be proof of neg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Recall Plan – traceability is a required by ISO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Prevent Products Liability Laws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2286000"/>
            <a:ext cx="86104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Criteria – focus preventive efforts where most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s 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 to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development of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ts of prevention program, requirement of ISO 9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stomer Service – must report product problems and any mis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ress – handling of complaints, returns, claims fairly with the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Liabilit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sons for product inju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/knowledge of product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where the product i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design and 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of these can an organization contro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sons Manufacturers are Li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 are in best position to kno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st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st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constru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st modes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s are more complex than 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umers expect products to be designed with safety as a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ducts Liability 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ient times, producers of grain were liable, sampling used to determine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th century, sampling and government seals used for verification, economic damages awa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veat emp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“let the buyer beware”, purchaser was responsible for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doctrine of privity of contract, could not directly sue the manufactu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16 MacPherson vs. Buick Motor Co. began the end of privity of contract (similar to Firestone lawsu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2, Consumer Product Safety Act (CP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umer Product Safety 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 public against unreasonable risk of inj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s consumers in evaluating safety of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uniform safety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/investigate causes and prevention of product safety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s injury information clearing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ducts used in or around home or school covered by CP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ms not covered by CPSA but by other Agenc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s – NHTSA – National Highway Traffic Safety Administr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ats – U.S. Coast Gu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rplanes – NTSB – National Transporation Safety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od, Drugs, Cosmetics, Tobacco – FDA - U.S. Food and Drug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sons – EPA – U.S. Environmental Protection Ag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PSA helps protect against things like thi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505320" y="4952880"/>
            <a:ext cx="4952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deo clip from Consumer Product Safet commission web si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www.cpsc.gov/mpeg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00:10:20Z</dcterms:created>
  <dc:creator>Scott Harden</dc:creator>
  <dc:description/>
  <dc:language>en-US</dc:language>
  <cp:lastModifiedBy>Scott Harden</cp:lastModifiedBy>
  <dcterms:modified xsi:type="dcterms:W3CDTF">2004-04-06T02:40:34Z</dcterms:modified>
  <cp:revision>8</cp:revision>
  <dc:subject/>
  <dc:title>Products Liability</dc:title>
</cp:coreProperties>
</file>