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138-FAFE-4BD5-82A0-29908E7B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430-A5B0-439F-BFFB-367B28E7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19C-1A03-4992-9FA1-6C422E09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137-36DF-49DC-B09C-EA1F7C7A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5D4A-5200-4ACF-BC80-97827172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A9C3-5CA8-49AF-9982-B0F45A31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8044-0274-4E53-8E18-4C90E0E1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E989-713E-4430-8110-80BCF5F4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3E61-9E92-4E72-A56B-830DA373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1D8F-7194-497A-BD69-1E43E486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744C-5B29-4D59-AC3E-8D26AEDB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5125-C618-4968-A096-9D12C5BB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F939-32E8-43DD-9FF8-4496DC9E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A1A8-7932-4D11-BB4A-C0711032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E5CC-5003-4148-9924-E402B622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1FC5-DE8E-4416-8629-1D2AF3D2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D419-CAF4-44CD-8FD5-1ED404E3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DCC-4280-4632-9E68-4937D5E7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720-B5B6-4D8D-AF97-2255F1D4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A49-B95B-406C-A11E-EB3A83A4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897-EA3B-4CF4-B342-CA333E0E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AFE-55CF-4F2F-9ABE-A65EB6AC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DDB-1935-4702-B2A8-ED103CB3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7255-DAA2-444C-BB13-94069742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35CB-5832-4C83-BB9E-F4B81B990B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89D0-B05B-4B27-A4A3-29236EE2AEA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Quality Functional Deployment (QFD)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ing Teamwork for the Custom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pter 1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pp Reynol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bruary 28, 200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Step 3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a Relationship Matrix between WHATs and HO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71560" indent="-469440">
              <a:spcBef>
                <a:spcPts val="55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trength of relationship between specific WHATs and HOW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206720" indent="-40212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+9 Strong (Symbol: ●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06720" indent="-40212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+3 Medium (Symbol: ○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06720" indent="-40212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+1 Weak (Symbol: 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06720" indent="-40212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 Not Applicable (No Symbo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it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71560" indent="-469440">
              <a:spcBef>
                <a:spcPts val="55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etermine trade-offs between conflicting characteristic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871560" indent="-469440">
              <a:spcBef>
                <a:spcPts val="55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etermines absolute weight at the bottom of the hou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6248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Step 4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the Interrelationship Matrix between HOWs (Correlation Matrix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is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trength of relationship between specific WHATs and HOW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8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+9 Strong Positive (Symbol: ●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8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+3 Positive (Symbol: ○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8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3  Negative (Symbol: X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8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9 Strong Negative (Symbol: *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y is it importa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etermine which HOWs support each other and which are in conflic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dentify points where trade-offs must be mad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Step 5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etitive Assess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71560" indent="-469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ow you rank on the WHATs compared to your competito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871560" indent="-469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ow you rank on the HOWs compared to your competitor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06720" indent="-402120">
              <a:lnSpc>
                <a:spcPct val="8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is on a scale 1 (worst) – 5 (bes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71560" indent="-469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t be congruence between WHATs and HO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it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71560" indent="-469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Determine if customer requirements are being me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871560" indent="-469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cus on areas of needed improv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Step 6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 Prioritized Customer Requir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is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ovides Absolute Numeric values to WHATs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ortance to the custom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ch is on a scale of 1 (least) – 10 (most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rget Valu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ch is on a scale 1 (worst) – 5 (best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cale-up Fact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w much improvement is necessary to get to the Target Value (Calc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ales Po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ch is on a scale of 1.0 (lowest) – 2.0 (highest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solute We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alcul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Step 6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Prioritized Customer Requirements (Cont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re does the data come fr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spcBef>
                <a:spcPts val="55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ocus Group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it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termines guide for the planning phase of product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Step 7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 Prioritized Technical Descrip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is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ovides objectives for subsequent designs and means to objectively assess progress and minimize subjective opinions on the HOWs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gree of Difficul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ch is on a scale of 1 (least) – 10 (most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rget Valu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ch is on a scale 1 (worst) – 5 (best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solute We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alcul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lative We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Calculati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Proc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Develop Prioritized Technical Descriptors (Cont.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it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igher weight values point to areas where efforts need focus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bsolute We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lang="en-US" sz="2800" spc="-1" strike="noStrike" baseline="-40000">
                <a:solidFill>
                  <a:srgbClr val="ffffff"/>
                </a:solidFill>
                <a:latin typeface="Garamond"/>
              </a:rPr>
              <a:t>i=1</a:t>
            </a:r>
            <a:r>
              <a:rPr b="0" lang="en-US" sz="2800" spc="-1" strike="noStrike" baseline="7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∑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(Error in Book pp 341; m should be j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ative We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30960" indent="-5014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 </a:t>
            </a:r>
            <a:r>
              <a:rPr b="0" lang="en-US" sz="2800" spc="-1" strike="noStrike" baseline="-40000">
                <a:solidFill>
                  <a:srgbClr val="ffffff"/>
                </a:solidFill>
                <a:latin typeface="Garamond"/>
              </a:rPr>
              <a:t>i=1</a:t>
            </a:r>
            <a:r>
              <a:rPr b="0" lang="en-US" sz="2800" spc="-1" strike="noStrike" baseline="7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∑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aramond"/>
              </a:rPr>
              <a:t>Just Kidding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Proc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ase 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duct Plan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ase I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t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ase II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cess Plan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ase 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duction Plan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s from the previous Phase become WHATs in the next Ph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Conclus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derly way to obtain and present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er product development cy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iderably reduced start-up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wer engineering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chance of oversight in design proc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vironment of team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ensus deci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erything is preserved in wri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Defini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ning tool used to fulfill customer expectatio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am Bas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oss Funct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ice of the Custom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pect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ir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62485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U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t Plann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 Developme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 Plan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tion Plan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vice Indus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Benefi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roved Customer Satisfa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dentifies Basic Needs (Customer Requiremen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cus on areas where most improvement is neede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s Implementation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rease design chang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mote Team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s Docum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for future desig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gure 12-1 pp. 31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Information Sourc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stomer Information comes from a combination of three pairs of 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licited or Unsolici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uantitative or Qualita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uctured or Rand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gure 12-2 pp. 32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an Affinity Diagram (Chp. 1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rganizes information into logical grou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QFD – Construction of the Hous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FD is also called the “House of Quality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cause it looks like a ho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oo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i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o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i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ke any house construction, following the plans (steps) correctly will result in a good strong house (Quality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Plans (Steps)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s Steps to Constructing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se of 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lvl="2" marL="1289160" indent="-42948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st Customer Requirements (WHA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89160" indent="-42948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st Technical Descriptors (HOW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89160" indent="-42948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 a Relationship Matrix between WHATs and H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89160" indent="-42948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 the Interrelationship Matrix between HOW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89160" indent="-42948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etitive Assess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89160" indent="-42948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 Prioritized Customer Requir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89160" indent="-42948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 Prioritized Technical Descrip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Step 1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st Customer Requirements (WHA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stomer Expectations or Requir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02840" indent="-43416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imary (Broad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02840" indent="-43416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condary (Narrow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02840" indent="-43416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rtiary (Very Specific) (May not be necessary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it import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is for everything which comes af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iss this and product/service will not be successfu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FD – Step 2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st Technical Descriptors (HOW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stics which affect the WHA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mary (Broa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condary (Narrow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30200" indent="-443160">
              <a:lnSpc>
                <a:spcPct val="90000"/>
              </a:lnSpc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rtiary (Very Specific) (May not be necessary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y is it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nslates the Customer Language in Technical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1722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urce: Besterfiled et al, (2003). Total Quality Management.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9:41:15Z</dcterms:created>
  <dc:creator>Kipp Reynolds</dc:creator>
  <dc:description/>
  <dc:language>en-US</dc:language>
  <cp:lastModifiedBy>KReynolds</cp:lastModifiedBy>
  <dcterms:modified xsi:type="dcterms:W3CDTF">2007-02-28T21:01:09Z</dcterms:modified>
  <cp:revision>13</cp:revision>
  <dc:subject/>
  <dc:title>Quality Functional Deployment (QFD)</dc:title>
</cp:coreProperties>
</file>